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35E2-6890-40C4-97A9-9A777C631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5A26-3834-437B-8582-E56172904C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La c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Se refiere en general a los dramas del siglo de 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Se divide en tres a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Flex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Se conforman a las unidades de tiempo, lugar y 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Se mezclan los elementos trágicos y cómicos tanto como los personajes de diferentes gru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Existe una métrica apropiada para el sujeto y el cont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Utiliza culteranismos y sobre todo conceptis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Arial"/>
              </a:rPr>
              <a:t>Existe una variedad de temas, técnicas literarias y tipos de persona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363-0C6C-4E29-80C4-09567C91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279-DEC1-45BC-A3C8-9BAD54ED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EBD-881E-4D12-B5A3-EFB09B53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7FD-64EE-4BFA-9298-4ED8B691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E3BA-70C0-4857-904F-FB99C89B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B830-6119-4CEF-A9E1-872340A4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8275-4B17-4A5F-9E1D-D7C8F0CF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0220-F466-4999-B9BF-E26A03B1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5CB6-B674-417B-9AB1-80CA95B9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2369-635B-4B14-958B-6667AB1B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D4D8-B6A0-4EBD-AF01-E5DA94E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CFA-B751-413A-996D-CFD960E6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F866-12A4-4B58-8D32-F555879B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34C5-C3E3-4F9F-AB51-26F1831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7051-E40A-4A2B-964C-E0BF3F95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9A4C-DBA9-4278-B9E2-F3DD342C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44A4-A1DD-4CDB-81D4-CDF5D379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7D9-0093-4308-A250-FA1DE9E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701-C519-4F34-B4D4-CEA244D1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A84-E1FB-485F-8A30-934BF9C1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ECA-D775-43FF-AC15-A26F6B39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14B-FAD3-4102-B2B1-E55AA73F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E8F3-B423-4811-B022-80B90730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31E-6E2F-42D6-AF46-1877BB30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6502-D7D9-44B1-A37E-6AAC727BD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A22D-5AB3-4488-98D3-9381563246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5400" spc="-1" strike="noStrike">
                <a:solidFill>
                  <a:srgbClr val="dbbd71"/>
                </a:solidFill>
                <a:latin typeface="Arial"/>
              </a:rPr>
              <a:t>El burlador de Sevill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Gabriel “Tirso de Molina” Téll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España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(¿1571?-164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os personaj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La villana y el señ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El rústico y el gentilhomb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La mujer desenvuelta de espíritu humano y verdad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El libertina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s la burla de Don Juan respecto 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Mund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r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Sus ami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s muje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asesinato de don Gonza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Su criado que lo apoya en todas sus fechorí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Religi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igles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tumba del Comenda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estat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muer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as paradoj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Del mundano hacia el religi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os símbolo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Catalinón—la consciencia de Don Juan o la voz de la igl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n el primer encuentro de Don Juan y el convidado de piedra, encontramos símbolos de una lucha interi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La vela—la luz del entendimiento de lo espirit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La espada—para defenderse de un ataque espirit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l fuego que siente Don Juan en la mano del convidado—la venganza de Dios y el infie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l último rechazo de D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a biografí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Su biografía es un miste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Podría ser hijo ilegítimo del poderoso duque de Osu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xplicaría sus críticas de la moraleja de la sociedad de su ti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A los 17, se hizo fra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s uno de los más destacados del siglo de o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Fue un recluso apartado de la vida so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Y un agudo crítico de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Filosofías del au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Los nobles son va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Todos los hombres son iguales ante D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El escándal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n 1625, se vio metido en un escándalo. Fue acusado de obscenidad y de retratar vicios en sus obras, sancionado y desterrado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Posiblemente sus críticos eran literarios o políticos satirizados en sus ob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Dejó de escribir poco después del escánda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Sin duda, el Consejo de Castilla estaba inquieto ante la crítica presente en sus obras frente a la laxitud moral y política de la clase no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Calificaron sus comedias de “proanas y de malos incentivos y ejemplos”, le ordenaron a abandonar su ofico como aut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a comed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Los dramas del siglo de o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Tres a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Se mezclan los elementos tanto como los personaj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Una mé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Una variedad de temas, técnicas literarias y tipos de personaj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profundo y complejo retrato psicológico de sus personaj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Se puede comparar con Shakespear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lenguaje pic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objetividad de sus detalles dramát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brío cómico de sus esce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Don Juan Tenori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l mito de Don Juan ya era conoci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Sin embargo, nadie había logrado convertir el personaje laberinto en un carácter univers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Se burla del honor de los homb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ngaña la integridad de las muje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Es prototipo del hombre ma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No sólo abusador sin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ffffff"/>
                </a:solidFill>
                <a:latin typeface="Tahoma"/>
              </a:rPr>
              <a:t>Elegante y seduct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ffffff"/>
                </a:solidFill>
                <a:latin typeface="Tahoma"/>
              </a:rPr>
              <a:t>Huye de la l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ffffff"/>
                </a:solidFill>
                <a:latin typeface="Tahoma"/>
              </a:rPr>
              <a:t>Desafía otros pode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Ha sido el personaje principal para otros autores famo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José de Zorril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Lord By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George Bernard Sha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El convidado de pied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Otro mito conocido del tie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Proviene del folklore medie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Un hombre muerto invitado por un mozo irrespetu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El teatro español del tiempo tenía muchos dramas donde existían estatuas anim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El debat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200" spc="-1" strike="noStrike">
                <a:solidFill>
                  <a:srgbClr val="ffffff"/>
                </a:solidFill>
                <a:latin typeface="Tahoma"/>
              </a:rPr>
              <a:t>Teológ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a naturaleza y el límite de la misericordia div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l mensaje es claro:  La misericordia de Dios es grande pero tiene sus límites y que castigará toda mal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os tem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Principal—La salvación espiri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l propósito del autor era hacer que la sociedad degenerada prestara atención al castigo de Don Juan con tal de que se arrepintieran antes de morir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ibre albedrí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l hombre puede salvarse por medio de un deseo íntegro de buscar el perdón de D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a respons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s la responsabilidad de cada persona de arrepenti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dbbd71"/>
                </a:solidFill>
                <a:latin typeface="Arial"/>
              </a:rPr>
              <a:t>Los Tem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DO" sz="2400" spc="-1" strike="noStrike">
                <a:solidFill>
                  <a:srgbClr val="ffffff"/>
                </a:solidFill>
                <a:latin typeface="Tahoma"/>
              </a:rPr>
              <a:t>Carpe di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DO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DO" sz="2400" spc="-1" strike="noStrike">
                <a:solidFill>
                  <a:srgbClr val="ffffff"/>
                </a:solidFill>
                <a:latin typeface="Tahoma"/>
              </a:rPr>
              <a:t>Si tan largo me lo fiái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La filosofía de Don Ju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ffffff"/>
                </a:solidFill>
                <a:latin typeface="Tahoma"/>
              </a:rPr>
              <a:t>La misericordia de Dios es tan grande que otorga el perdón siempre cuando se p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ffffff"/>
                </a:solidFill>
                <a:latin typeface="Tahoma"/>
              </a:rPr>
              <a:t>Siempre pensaba que podría arrepentirse en el futuro de todas las maldades que hacía y por eso se enfoca en sus deseos del presente y demora el día de su arrepentimiento.  Como sabemos, cuando llega el día del castigo es ya demasiado tarde para pedir perdón por lo que ha hec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a justicia del monar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a importancia del ho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l honor mascu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La integridad femen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ffffff"/>
                </a:solidFill>
                <a:latin typeface="Tahoma"/>
              </a:rPr>
              <a:t>El honor (intrínseco) vs. La honra (extrínse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La restauración del presumido “orden natur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ffffff"/>
                </a:solidFill>
                <a:latin typeface="Tahoma"/>
              </a:rPr>
              <a:t>El sacrileg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23:10:51Z</dcterms:created>
  <dc:creator>Preferred Customer</dc:creator>
  <dc:description/>
  <dc:language>en-US</dc:language>
  <cp:lastModifiedBy>Mami</cp:lastModifiedBy>
  <dcterms:modified xsi:type="dcterms:W3CDTF">2010-07-27T02:25:03Z</dcterms:modified>
  <cp:revision>12</cp:revision>
  <dc:subject/>
  <dc:title>El burlador de Sevilla</dc:title>
</cp:coreProperties>
</file>